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9A21-4476-44B7-A025-2CE501ABB8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BE9-A41B-4E43-8E61-9B8F8F21C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B50-A2B6-4155-8D30-A8F958BA4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D71-97EC-4D77-8BA6-659E40C1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DED9-461B-47D5-98C9-12B6DC75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50EB-4372-4A63-83F8-4D0C69BD7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B022-D82B-43A4-BA9D-1D8092387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A07D-A0F0-428C-A3E3-9420A780E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CFC5-8274-4943-A0EB-26052DFCB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7D94-B7C8-4A68-86FD-4612D10C74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41A5-9FC5-41EB-B034-F9748397F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6B6C-9B74-40DD-95C3-283A363C06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8F4E-7A2C-4875-95C6-C1C39B9B2A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BBE4-A03A-4CCB-BFCF-CA2E323D1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14E6-D350-4580-B4F2-C29631D5DC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4BBD-831D-4CA2-B8DA-87237ABB2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ED44-18FA-448B-9BBA-326D9292A0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1101-7629-4CF6-8DA2-A432D3C383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61F2-A3CA-4324-97CB-CDCBFBABD4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2553-2173-4756-871A-EFA7760C14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9AB4-9826-49FB-A6DA-B49B38A5C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C6CA-24C3-45EA-B72B-1E12DEAFB8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F07-7DCB-41F4-83C5-BE7D9364D9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B98-6E89-4003-A5C5-05242D80D6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B40-B7A1-44BF-9CD0-E0375EB6C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A1E7-F2C9-4C9F-92AA-2B3B73DD3A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E5E-FEE5-4724-B9EE-73893F84C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1B0-7F28-4108-A98C-113CCEC6D1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D01-0BF0-4D24-8779-845112282E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EC6-1864-488F-A7BB-25700FC471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E28-41C4-4D47-8E55-E93B01C0B3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7E6-C8D6-4A16-9267-2DD042E3C3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F0E-1C9A-4861-B6FB-D0CCB7B336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869-0417-49F6-AA85-E40190C1DC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7B1-CA47-47E9-82FC-F398B33091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5214D-D476-4629-854E-F29011DA7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FD4E-53A8-4F11-9D63-3602673204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914E6-8D5F-492D-86A6-43D55472D6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E82D7-8959-4FA9-80D0-542F63631B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1AB80-743A-4491-B4C6-FC5BDD827D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D8B9B-D66A-4B79-A7DA-CD0B782C54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FEAD-F843-4348-9CC6-388AC64E39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9FE7B-E12A-4F97-ACFA-4F0B8E5D7B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850D-4E96-47BB-8F76-DC11F647F9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0F07-52BC-4E6A-9FA2-C438CE90AD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C7BF-D0FF-4591-9CF2-49D3F56842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8198E-574E-4601-A76F-29EA83F29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0FBB-6E24-4A95-BBAF-0F900316A8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EFED2-628A-47A5-B58B-49587F2C21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EBE0-5B8D-4880-94D3-47432B1553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8B6C-4E09-41C4-AC67-61D484ADA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7194-EA5F-4736-9DC0-1A88266AD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4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88EBB477-1D46-42FB-8D89-32FAF9E33811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83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063-A65D-4372-B263-D85149413AEE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CD6E69D1-B439-49F2-B7F0-05C82ADBA598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128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8BA-C561-4F7F-A64E-AD96787CE910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43C8025A-0A09-4181-8F16-511732ABBC5A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8fb2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6162840"/>
            <a:ext cx="91440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228600" y="6202440"/>
            <a:ext cx="4302000" cy="664920"/>
            <a:chOff x="228600" y="6202440"/>
            <a:chExt cx="4302000" cy="664920"/>
          </a:xfrm>
        </p:grpSpPr>
        <p:pic>
          <p:nvPicPr>
            <p:cNvPr id="173" name="Picture 4" descr="CareerandCollege_FINAL.png"/>
            <p:cNvPicPr/>
            <p:nvPr/>
          </p:nvPicPr>
          <p:blipFill>
            <a:blip r:embed="rId2"/>
            <a:stretch/>
          </p:blipFill>
          <p:spPr>
            <a:xfrm>
              <a:off x="228600" y="6278040"/>
              <a:ext cx="693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8" descr="ppt_acre_wordheader.png"/>
            <p:cNvPicPr/>
            <p:nvPr/>
          </p:nvPicPr>
          <p:blipFill>
            <a:blip r:embed="rId3"/>
            <a:stretch/>
          </p:blipFill>
          <p:spPr>
            <a:xfrm>
              <a:off x="1060560" y="6202440"/>
              <a:ext cx="3470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Straight Connector 10"/>
            <p:cNvSpPr/>
            <p:nvPr/>
          </p:nvSpPr>
          <p:spPr>
            <a:xfrm>
              <a:off x="1000080" y="6276960"/>
              <a:ext cx="0" cy="506160"/>
            </a:xfrm>
            <a:prstGeom prst="line">
              <a:avLst/>
            </a:prstGeom>
            <a:ln w="25560">
              <a:solidFill>
                <a:srgbClr val="0045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14"/>
          <p:cNvSpPr/>
          <p:nvPr/>
        </p:nvSpPr>
        <p:spPr>
          <a:xfrm>
            <a:off x="-76320" y="6116760"/>
            <a:ext cx="9372600" cy="7596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5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5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57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693396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57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F4F4-2E22-4A99-A68D-EFED968B0936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045245BC-290E-4634-9EDC-7503799AAADD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stewart@dpi.state.nc.us" TargetMode="External"/><Relationship Id="rId2" Type="http://schemas.openxmlformats.org/officeDocument/2006/relationships/hyperlink" Target="mailto:tgreggs@dpi.state.nc.us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on Core and Essential Standards Summer Institu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ebinar Seri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 and Charter School Team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ch 21-24, 2011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2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5562360"/>
            <a:ext cx="7467480" cy="990360"/>
          </a:xfrm>
          <a:prstGeom prst="rect">
            <a:avLst/>
          </a:prstGeom>
          <a:noFill/>
          <a:ln w="3240">
            <a:solidFill>
              <a:srgbClr val="f0f3ee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mmer Institute Contact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vette Stewart, RttT Project Coordinator, PD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stewart@dpi.state.nc.u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cey Greggs, RttT Project Coordinator, Standards and Assessment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greggs@dpi.state.nc.u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BF6718E3-476F-437D-B0FC-A7910122B40A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3"/>
          <p:cNvSpPr/>
          <p:nvPr/>
        </p:nvSpPr>
        <p:spPr>
          <a:xfrm>
            <a:off x="762120" y="7621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pic15.jpg"/>
          <p:cNvPicPr/>
          <p:nvPr/>
        </p:nvPicPr>
        <p:blipFill>
          <a:blip r:embed="rId1"/>
          <a:stretch/>
        </p:blipFill>
        <p:spPr>
          <a:xfrm>
            <a:off x="0" y="1371600"/>
            <a:ext cx="4692600" cy="36766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4572000" y="914400"/>
            <a:ext cx="4495680" cy="5107320"/>
          </a:xfrm>
          <a:prstGeom prst="rect">
            <a:avLst/>
          </a:prstGeom>
          <a:solidFill>
            <a:srgbClr val="4e75a3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PI Recommen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Areas (by grade spa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LA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th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ience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Studies (K-5) (6-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-12 Content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rriculum Specialist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orld Language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rt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ful Liv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L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*Also consider:   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Instructional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Exceptional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100" spc="-1" strike="noStrike">
                <a:solidFill>
                  <a:srgbClr val="f0f3ee"/>
                </a:solidFill>
                <a:latin typeface="Calibri"/>
              </a:rPr>
              <a:t>Professional Development Coordin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Career and Technical Education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0f3ee"/>
                </a:solidFill>
                <a:latin typeface="Calibri"/>
              </a:rPr>
              <a:t>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533520" y="304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BUILDING YOUR PROFESSIONAL DEVELOPMENT LEADER TEAMS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225-1C63-43D5-9998-2CBC11E41B23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DEA496B5-A4F3-41B9-8E52-9DBB390D884C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LEA/CHARTER SCHOOL TEAMS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REGISTRATION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348" name="Picture 4" descr="pic15.jpg"/>
          <p:cNvPicPr/>
          <p:nvPr/>
        </p:nvPicPr>
        <p:blipFill>
          <a:blip r:embed="rId1"/>
          <a:stretch/>
        </p:blipFill>
        <p:spPr>
          <a:xfrm>
            <a:off x="5638680" y="3887640"/>
            <a:ext cx="3505320" cy="220824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0" y="1143000"/>
            <a:ext cx="9144000" cy="1066680"/>
          </a:xfrm>
          <a:prstGeom prst="rect">
            <a:avLst/>
          </a:prstGeom>
          <a:solidFill>
            <a:srgbClr val="4e7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ach team member must register individually for the sa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gister for only ONE session, pl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838080" y="9144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2427120"/>
          <a:ext cx="8839440" cy="138276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  <a:gridCol w="1473120"/>
                <a:gridCol w="1473120"/>
                <a:gridCol w="147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*JUNE 27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2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4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19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21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JULY 26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REGION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Grove Park Inn, hosted by W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Kinston HS, Lenoir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West Stokes HS, Stokes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Pasquotank HS, Pasquotank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Grandview MS, Hickory City Sch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44e6d"/>
                          </a:solidFill>
                          <a:latin typeface="Calibri"/>
                        </a:rPr>
                        <a:t>Southern MS, Moore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88ad"/>
                      </a:solidFill>
                    </a:lnL>
                    <a:lnR w="5760">
                      <a:solidFill>
                        <a:srgbClr val="5b88ad"/>
                      </a:solidFill>
                    </a:lnR>
                    <a:lnT w="5760">
                      <a:solidFill>
                        <a:srgbClr val="5b88ad"/>
                      </a:solidFill>
                    </a:lnT>
                    <a:lnB w="5760">
                      <a:solidFill>
                        <a:srgbClr val="5b88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Box 7"/>
          <p:cNvSpPr/>
          <p:nvPr/>
        </p:nvSpPr>
        <p:spPr>
          <a:xfrm>
            <a:off x="152280" y="3886200"/>
            <a:ext cx="5410440" cy="1921320"/>
          </a:xfrm>
          <a:prstGeom prst="rect">
            <a:avLst/>
          </a:prstGeom>
          <a:noFill/>
          <a:ln w="9360">
            <a:solidFill>
              <a:srgbClr val="5b88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*Contact Jan Webster, WRESA regarding Region 8 Summer Institute @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webster@wresa.or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----------------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Register @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cpublicschools.org/profdev/conferences/summerinstitu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457e"/>
                </a:solidFill>
                <a:latin typeface="Arial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cpublicschools.org/profdev/ac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BEFORE SUMMER INSTITUTES…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SCOPE OF WORK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4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8B724E2C-1AD9-479A-979C-22CD56657943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4572000" y="19861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Review your LEA/Charter School’s Detailed Scope of Work (DSW) and local improvement plans to familiarize yourself with the innovative professional development ideas your LEA/charter school has outlined to help teachers transition to the new Common Core and Essential Standards (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cpublicschools.org/rt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4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pic11.jpg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BEFORE SUMMER INSTITUTES…         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MODULE 1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BC43A47C-6E5F-4EC4-9133-EC64949FA2A7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4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pic11.jpg"/>
          <p:cNvPicPr/>
          <p:nvPr/>
        </p:nvPicPr>
        <p:blipFill>
          <a:blip r:embed="rId1"/>
          <a:stretch/>
        </p:blipFill>
        <p:spPr>
          <a:xfrm>
            <a:off x="228600" y="1371600"/>
            <a:ext cx="380700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4114800" y="1371600"/>
            <a:ext cx="4876920" cy="4613760"/>
          </a:xfrm>
          <a:prstGeom prst="rect">
            <a:avLst/>
          </a:prstGeom>
          <a:solidFill>
            <a:srgbClr val="4e75a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4191120" y="1752480"/>
            <a:ext cx="48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Module 1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Call for 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cessible June 3, 2011) as 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team member will access the module through your NC FALCON lo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includes embedded tea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a date and location where all team members can work in a “lab”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7e"/>
                </a:solidFill>
                <a:latin typeface="Arial"/>
              </a:rPr>
              <a:t>DURING SUMMER INSTITUTES…</a:t>
            </a:r>
            <a:endParaRPr b="1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Participate in content-specific Training Sessions (K-5) and (6-12) and K-12 content sessions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Each RttT Coordinator will receive a hard-copy of the </a:t>
            </a:r>
            <a:r>
              <a:rPr b="0" i="1" lang="en-US" sz="1800" spc="-1" strike="noStrike">
                <a:solidFill>
                  <a:srgbClr val="00457e"/>
                </a:solidFill>
                <a:latin typeface="Arial"/>
              </a:rPr>
              <a:t>Common Core and Essential Standards Implementation Guide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Each team member will receive a CD of the </a:t>
            </a:r>
            <a:r>
              <a:rPr b="0" i="1" lang="en-US" sz="1800" spc="-1" strike="noStrike">
                <a:solidFill>
                  <a:srgbClr val="00457e"/>
                </a:solidFill>
                <a:latin typeface="Arial"/>
              </a:rPr>
              <a:t>Common Core and Essential Standards Implementation Guide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E82F-8B2E-4994-9370-37740D1E4AB4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A5F55101-F021-4C6D-9FEE-7ED52DC0AC3F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5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pic2.jpg"/>
          <p:cNvPicPr/>
          <p:nvPr/>
        </p:nvPicPr>
        <p:blipFill>
          <a:blip r:embed="rId1"/>
          <a:stretch/>
        </p:blipFill>
        <p:spPr>
          <a:xfrm>
            <a:off x="152280" y="1295280"/>
            <a:ext cx="37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AFTER SUMMER INSTITUTES…</a:t>
            </a:r>
            <a:endParaRPr b="1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Develop an LEA/Charter School Professional Development implementation plan prior to 2012-13 school-year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Determine roles and responsibilities of each team member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Visit www.ncpublicschools.org/acre/standards/support-tools to review posted Instructional Tools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Access all Summer Institute presentations posted to DPI website for LEA and charter school use 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7e"/>
                </a:solidFill>
                <a:latin typeface="Arial"/>
              </a:rPr>
              <a:t>Contact Curriculum and Instruction Staff, www.ncpublicschools.org/curriculum-instruction/directory/section </a:t>
            </a: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C63-E8BB-4EE8-8BE4-41087984F789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D0F3C92C-91FD-463B-9415-C677520FEE8E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5"/>
          <p:cNvSpPr/>
          <p:nvPr/>
        </p:nvSpPr>
        <p:spPr>
          <a:xfrm>
            <a:off x="76212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57e"/>
                </a:solidFill>
                <a:latin typeface="Arial"/>
              </a:rPr>
              <a:t>Questions?</a:t>
            </a:r>
            <a:endParaRPr b="1" lang="en-US" sz="6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1132F9DD-7B9B-43EF-81EB-807B2ABB9EEB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533520" y="1295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4e6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ubtitle 4"/>
          <p:cNvSpPr/>
          <p:nvPr/>
        </p:nvSpPr>
        <p:spPr>
          <a:xfrm>
            <a:off x="76320" y="4191120"/>
            <a:ext cx="8915400" cy="1143000"/>
          </a:xfrm>
          <a:prstGeom prst="rect">
            <a:avLst/>
          </a:prstGeom>
          <a:noFill/>
          <a:ln w="38160">
            <a:solidFill>
              <a:srgbClr val="f0f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Summer Institute Conta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Yvette Stewart, RttT Project Coordinator, PD | ystewart@dpi.state.nc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57e"/>
                </a:solidFill>
                <a:latin typeface="Arial"/>
                <a:ea typeface="Arial"/>
              </a:rPr>
              <a:t>Tracey Greggs, RttT Project Coordinator, Standards and Assessment | tgreggs@dpi.state.nc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</a:rPr>
              <a:t>WELCOME</a:t>
            </a:r>
            <a:endParaRPr b="1" lang="en-US" sz="40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267" name="Picture 8" descr="IMAGE.jpg"/>
          <p:cNvPicPr/>
          <p:nvPr/>
        </p:nvPicPr>
        <p:blipFill>
          <a:blip r:embed="rId1"/>
          <a:stretch/>
        </p:blipFill>
        <p:spPr>
          <a:xfrm>
            <a:off x="3809880" y="16002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3051720" y="3429000"/>
            <a:ext cx="28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vette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y Gr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913400" y="47242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ordinators, Race to the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Webinar Objectives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7F160155-F967-4B0E-9341-D6817CBA93A7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60948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goals of the Common Core and Essential Standards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state’s blended approach to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teams of the expectations for the Common Core and Essential Standards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key steps in preparation for the Summer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Communications Chart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75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8D0F7F7F-F966-4BBF-89EE-71A9CD3E9B52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3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Content Placeholder 8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8851680" cy="4584960"/>
          </a:xfrm>
          <a:prstGeom prst="rect">
            <a:avLst/>
          </a:prstGeom>
          <a:ln w="0">
            <a:noFill/>
          </a:ln>
        </p:spPr>
      </p:pic>
      <p:sp>
        <p:nvSpPr>
          <p:cNvPr id="278" name="Up Arrow 9"/>
          <p:cNvSpPr/>
          <p:nvPr/>
        </p:nvSpPr>
        <p:spPr>
          <a:xfrm>
            <a:off x="2792520" y="1752480"/>
            <a:ext cx="1017360" cy="396252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733560" y="624816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Timeline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pic>
        <p:nvPicPr>
          <p:cNvPr id="280" name="Content Placeholder 7" descr="timeline.bmp"/>
          <p:cNvPicPr/>
          <p:nvPr/>
        </p:nvPicPr>
        <p:blipFill>
          <a:blip r:embed="rId1"/>
          <a:stretch/>
        </p:blipFill>
        <p:spPr>
          <a:xfrm>
            <a:off x="457200" y="0"/>
            <a:ext cx="8648640" cy="60958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E760D1BF-0CBC-4DE0-9C54-84AFC45FACE8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8"/>
          <p:cNvSpPr/>
          <p:nvPr/>
        </p:nvSpPr>
        <p:spPr>
          <a:xfrm>
            <a:off x="4800600" y="990720"/>
            <a:ext cx="1066680" cy="25146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514600"/>
              <a:gd name="textAreaBottom" fmla="*/ 2462760 h 2514600"/>
            </a:gdLst>
            <a:ahLst/>
            <a:rect l="textAreaLeft" t="textAreaTop" r="textAreaRight" b="textAreaBottom"/>
            <a:pathLst>
              <a:path w="21600" h="50910">
                <a:moveTo>
                  <a:pt x="3600" y="0"/>
                </a:moveTo>
                <a:arcTo wR="3600" hR="3600" stAng="16200000" swAng="-5400000"/>
                <a:lnTo>
                  <a:pt x="0" y="47310"/>
                </a:lnTo>
                <a:arcTo wR="3600" hR="3600" stAng="10800000" swAng="-5400000"/>
                <a:lnTo>
                  <a:pt x="18000" y="50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9"/>
          <p:cNvSpPr/>
          <p:nvPr/>
        </p:nvSpPr>
        <p:spPr>
          <a:xfrm>
            <a:off x="5867280" y="990720"/>
            <a:ext cx="1143000" cy="2514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514600"/>
              <a:gd name="textAreaBottom" fmla="*/ 2458800 h 2514600"/>
            </a:gdLst>
            <a:ahLst/>
            <a:rect l="textAreaLeft" t="textAreaTop" r="textAreaRight" b="textAreaBottom"/>
            <a:pathLst>
              <a:path w="21600" h="47512">
                <a:moveTo>
                  <a:pt x="3600" y="0"/>
                </a:moveTo>
                <a:arcTo wR="3600" hR="3600" stAng="16200000" swAng="-5400000"/>
                <a:lnTo>
                  <a:pt x="0" y="43912"/>
                </a:lnTo>
                <a:arcTo wR="3600" hR="3600" stAng="10800000" swAng="-5400000"/>
                <a:lnTo>
                  <a:pt x="18000" y="47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0"/>
          <p:cNvSpPr/>
          <p:nvPr/>
        </p:nvSpPr>
        <p:spPr>
          <a:xfrm>
            <a:off x="7010280" y="990720"/>
            <a:ext cx="1524240" cy="251460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2514600"/>
              <a:gd name="textAreaBottom" fmla="*/ 2440440 h 2514600"/>
            </a:gdLst>
            <a:ahLst/>
            <a:rect l="textAreaLeft" t="textAreaTop" r="textAreaRight" b="textAreaBottom"/>
            <a:pathLst>
              <a:path w="21600" h="35631">
                <a:moveTo>
                  <a:pt x="3600" y="0"/>
                </a:moveTo>
                <a:arcTo wR="3600" hR="3600" stAng="16200000" swAng="-5400000"/>
                <a:lnTo>
                  <a:pt x="0" y="32031"/>
                </a:lnTo>
                <a:arcTo wR="3600" hR="3600" stAng="10800000" swAng="-5400000"/>
                <a:lnTo>
                  <a:pt x="18000" y="35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iped Right Arrow 11"/>
          <p:cNvSpPr/>
          <p:nvPr/>
        </p:nvSpPr>
        <p:spPr>
          <a:xfrm>
            <a:off x="2666880" y="5611680"/>
            <a:ext cx="1447920" cy="484200"/>
          </a:xfrm>
          <a:custGeom>
            <a:avLst/>
            <a:gdLst>
              <a:gd name="textAreaLeft" fmla="*/ 75600 w 1447920"/>
              <a:gd name="textAreaRight" fmla="*/ 1326960 w 1447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1447800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1205707" y="121047"/>
                </a:lnTo>
                <a:lnTo>
                  <a:pt x="1205707" y="0"/>
                </a:lnTo>
                <a:lnTo>
                  <a:pt x="1447800" y="242094"/>
                </a:lnTo>
                <a:lnTo>
                  <a:pt x="1205707" y="484187"/>
                </a:lnTo>
                <a:lnTo>
                  <a:pt x="1205707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eft Arrow Callout 12"/>
          <p:cNvSpPr/>
          <p:nvPr/>
        </p:nvSpPr>
        <p:spPr>
          <a:xfrm rot="10800000">
            <a:off x="0" y="1447560"/>
            <a:ext cx="914400" cy="1981080"/>
          </a:xfrm>
          <a:prstGeom prst="leftArrowCallout">
            <a:avLst>
              <a:gd name="adj1" fmla="val 18939"/>
              <a:gd name="adj2" fmla="val 36811"/>
              <a:gd name="adj3" fmla="val 29546"/>
              <a:gd name="adj4" fmla="val 4680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eft Brace 13"/>
          <p:cNvSpPr/>
          <p:nvPr/>
        </p:nvSpPr>
        <p:spPr>
          <a:xfrm>
            <a:off x="1143000" y="2438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1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533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Essential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57e"/>
                </a:solidFill>
                <a:latin typeface="Arial"/>
              </a:rPr>
              <a:t>TRANSFORMING PROFESSIONAL DEVELOPMENT</a:t>
            </a:r>
            <a:br>
              <a:rPr sz="2900"/>
            </a:br>
            <a:endParaRPr b="1" lang="en-US" sz="20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594596B8-E8F1-41E1-B399-C375AE54700D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4" descr="10037099.JPG"/>
          <p:cNvPicPr/>
          <p:nvPr/>
        </p:nvPicPr>
        <p:blipFill>
          <a:blip r:embed="rId1"/>
          <a:stretch/>
        </p:blipFill>
        <p:spPr>
          <a:xfrm>
            <a:off x="0" y="2895480"/>
            <a:ext cx="5410080" cy="312732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17"/>
          <p:cNvSpPr/>
          <p:nvPr/>
        </p:nvSpPr>
        <p:spPr>
          <a:xfrm>
            <a:off x="685800" y="114300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4876920" y="1441440"/>
            <a:ext cx="3962160" cy="1981080"/>
          </a:xfrm>
          <a:prstGeom prst="rect">
            <a:avLst/>
          </a:prstGeom>
          <a:solidFill>
            <a:srgbClr val="344e6d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4876920" y="144144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ensure that every teacher in North Carolina has a deep, specific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derstand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f the new Common Core and Essential Standards and ca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m to improve student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57e"/>
                </a:solidFill>
                <a:latin typeface="Arial"/>
              </a:rPr>
              <a:t>A BLENDED APPROACH</a:t>
            </a:r>
            <a:endParaRPr b="1" lang="en-US" sz="2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94BCE744-3A49-424C-8C37-06EAC423A15D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3"/>
          <p:cNvSpPr/>
          <p:nvPr/>
        </p:nvSpPr>
        <p:spPr>
          <a:xfrm>
            <a:off x="838080" y="12193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990720" y="1447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mbination of online and face-to-face learning that includes different combinations of technologies, pedagogies, and contexts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Graham, 2006; Stacey &amp; Gerbic, 2001; Garrison and Vaughn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762120" y="3048120"/>
            <a:ext cx="3276360" cy="2514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e7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5"/>
          <p:cNvSpPr/>
          <p:nvPr/>
        </p:nvSpPr>
        <p:spPr>
          <a:xfrm>
            <a:off x="4952880" y="3048120"/>
            <a:ext cx="3276720" cy="2514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e75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1143000" y="34290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A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5486400" y="330192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line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rtual PL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295280" y="26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486400" y="26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57e"/>
                </a:solidFill>
                <a:latin typeface="Arial"/>
              </a:rPr>
              <a:t>Professional Development: Access and Support </a:t>
            </a:r>
            <a:endParaRPr b="1" lang="en-US" sz="22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6A5E-F18C-41B7-BF9E-77BE887E8B65}" type="datetime">
              <a:rPr b="0" lang="en-US" sz="1200" spc="-1" strike="noStrike">
                <a:solidFill>
                  <a:srgbClr val="00457e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  •  page </a:t>
            </a:r>
            <a:fld id="{355958C7-1F1D-4B30-A85F-9225E1BF3179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457200" y="2209680"/>
            <a:ext cx="8686800" cy="2743200"/>
          </a:xfrm>
          <a:prstGeom prst="rightArrow">
            <a:avLst>
              <a:gd name="adj1" fmla="val 57407"/>
              <a:gd name="adj2" fmla="val 22636"/>
            </a:avLst>
          </a:prstGeom>
          <a:solidFill>
            <a:srgbClr val="3366ff">
              <a:alpha val="14000"/>
            </a:srgbClr>
          </a:solidFill>
          <a:ln w="2844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228600" y="1066680"/>
            <a:ext cx="4495680" cy="398880"/>
          </a:xfrm>
          <a:prstGeom prst="rect">
            <a:avLst/>
          </a:prstGeom>
          <a:solidFill>
            <a:srgbClr val="4e75a3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228600" y="17524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ine support to increase teacher understanding and implementation of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76320" y="2286000"/>
            <a:ext cx="914400" cy="3581280"/>
          </a:xfrm>
          <a:prstGeom prst="rect">
            <a:avLst/>
          </a:prstGeom>
          <a:solidFill>
            <a:srgbClr val="40c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9"/>
          <p:cNvSpPr/>
          <p:nvPr/>
        </p:nvSpPr>
        <p:spPr>
          <a:xfrm rot="16200000">
            <a:off x="-1149120" y="3663720"/>
            <a:ext cx="3427200" cy="824040"/>
          </a:xfrm>
          <a:prstGeom prst="rect">
            <a:avLst/>
          </a:prstGeom>
          <a:solidFill>
            <a:srgbClr val="4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Call for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 Overview of the Common Core and Essential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"/>
          <p:cNvSpPr/>
          <p:nvPr/>
        </p:nvSpPr>
        <p:spPr>
          <a:xfrm>
            <a:off x="19051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 rot="16200000">
            <a:off x="72720" y="3907080"/>
            <a:ext cx="34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nderstanding th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9907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3733920" y="2286000"/>
            <a:ext cx="761760" cy="3581280"/>
          </a:xfrm>
          <a:prstGeom prst="rect">
            <a:avLst/>
          </a:prstGeom>
          <a:solidFill>
            <a:srgbClr val="ecd3d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3"/>
          <p:cNvSpPr/>
          <p:nvPr/>
        </p:nvSpPr>
        <p:spPr>
          <a:xfrm>
            <a:off x="2819520" y="2286000"/>
            <a:ext cx="91440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9"/>
          <p:cNvSpPr/>
          <p:nvPr/>
        </p:nvSpPr>
        <p:spPr>
          <a:xfrm rot="16200000">
            <a:off x="626760" y="3792600"/>
            <a:ext cx="36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 Revised Bloom’s Taxonomy (RB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9"/>
          <p:cNvSpPr/>
          <p:nvPr/>
        </p:nvSpPr>
        <p:spPr>
          <a:xfrm rot="16200000">
            <a:off x="-270720" y="3907800"/>
            <a:ext cx="3429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Understanding the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4952880" y="1066680"/>
            <a:ext cx="4038840" cy="703800"/>
          </a:xfrm>
          <a:prstGeom prst="rect">
            <a:avLst/>
          </a:prstGeom>
          <a:solidFill>
            <a:srgbClr val="4e75a3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CC and Essential Standard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5943600" y="2286000"/>
            <a:ext cx="76212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 rot="16200000">
            <a:off x="4528080" y="3929760"/>
            <a:ext cx="36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Implementation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6705720" y="2286000"/>
            <a:ext cx="76176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 rot="16200000">
            <a:off x="535068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7467480" y="2286000"/>
            <a:ext cx="762120" cy="3581280"/>
          </a:xfrm>
          <a:prstGeom prst="rect">
            <a:avLst/>
          </a:prstGeom>
          <a:gradFill rotWithShape="0">
            <a:gsLst>
              <a:gs pos="0">
                <a:srgbClr val="ffebf1"/>
              </a:gs>
              <a:gs pos="100000">
                <a:srgbClr val="ffbbd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 rot="16200000">
            <a:off x="6108480" y="3721320"/>
            <a:ext cx="350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wa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pack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4"/>
          <p:cNvSpPr/>
          <p:nvPr/>
        </p:nvSpPr>
        <p:spPr>
          <a:xfrm>
            <a:off x="4876920" y="1676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al Tools targeted to aid in the transition and to complement the professional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 rot="16200000">
            <a:off x="155628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: Developing Local Curri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9"/>
          <p:cNvSpPr/>
          <p:nvPr/>
        </p:nvSpPr>
        <p:spPr>
          <a:xfrm rot="16200000">
            <a:off x="2394720" y="3929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: NC FAL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4495680" y="2286000"/>
            <a:ext cx="914400" cy="3581280"/>
          </a:xfrm>
          <a:prstGeom prst="rect">
            <a:avLst/>
          </a:prstGeom>
          <a:solidFill>
            <a:srgbClr val="ecd3d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9"/>
          <p:cNvSpPr/>
          <p:nvPr/>
        </p:nvSpPr>
        <p:spPr>
          <a:xfrm rot="16200000">
            <a:off x="3180960" y="3792600"/>
            <a:ext cx="35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C Teacher Standards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LEA and Charter School Teams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457e"/>
                </a:solidFill>
                <a:latin typeface="Arial"/>
              </a:rPr>
              <a:t>Goals of Summer Institutes</a:t>
            </a:r>
            <a:endParaRPr b="1" lang="en-US" sz="1800" spc="-1" strike="noStrike">
              <a:solidFill>
                <a:srgbClr val="00457e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934320" y="6354720"/>
            <a:ext cx="190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57e"/>
                </a:solidFill>
                <a:latin typeface="Calibri"/>
              </a:rPr>
              <a:t>2/14/2011  •  page </a:t>
            </a:r>
            <a:fld id="{760B715E-76A0-495A-B7C2-5F115954DE4C}" type="slidenum">
              <a:rPr b="0" lang="en-US" sz="1200" spc="-1" strike="noStrike">
                <a:solidFill>
                  <a:srgbClr val="00457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4" descr="10037099.JPG"/>
          <p:cNvPicPr/>
          <p:nvPr/>
        </p:nvPicPr>
        <p:blipFill>
          <a:blip r:embed="rId1"/>
          <a:stretch/>
        </p:blipFill>
        <p:spPr>
          <a:xfrm>
            <a:off x="0" y="3030480"/>
            <a:ext cx="3809880" cy="306540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17"/>
          <p:cNvSpPr/>
          <p:nvPr/>
        </p:nvSpPr>
        <p:spPr>
          <a:xfrm>
            <a:off x="685800" y="990720"/>
            <a:ext cx="75438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>
            <a:off x="3962520" y="1219320"/>
            <a:ext cx="5105160" cy="4800600"/>
          </a:xfrm>
          <a:prstGeom prst="rect">
            <a:avLst/>
          </a:prstGeom>
          <a:solidFill>
            <a:srgbClr val="4e75a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3e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A deeper understanding of the new Common Core and Essenti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Training materials needed to support and sustain local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f3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An understanding how to integrate the online learning in local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5105520" y="1371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3ee"/>
                </a:solidFill>
                <a:latin typeface="Arial"/>
                <a:ea typeface="Arial"/>
              </a:rPr>
              <a:t>Each institute will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6320" y="152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fb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8:52:22Z</dcterms:created>
  <dc:creator> </dc:creator>
  <dc:description/>
  <dc:language>en-US</dc:language>
  <cp:lastModifiedBy>Yvette Stewart</cp:lastModifiedBy>
  <cp:lastPrinted>2011-01-25T21:11:50Z</cp:lastPrinted>
  <dcterms:modified xsi:type="dcterms:W3CDTF">2011-03-23T18:37:38Z</dcterms:modified>
  <cp:revision>387</cp:revision>
  <dc:subject/>
  <dc:title>Slide 1</dc:title>
</cp:coreProperties>
</file>